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alarmoff.wav" ContentType="audio/x-wav"/>
  <Override PartName="/ppt/media/lzipup01.wav" ContentType="audio/x-wav"/>
  <Override PartName="/ppt/media/zapbig0g.wav" ContentType="audio/x-wav"/>
  <Override PartName="/ppt/media/bserie06.wav" ContentType="audio/x-wav"/>
  <Override PartName="/ppt/media/highchim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5F2-F058-4F5C-A9FC-9C988595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A3E-7A30-415B-9E89-C8C9EE87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0B0-6EB1-471D-BC6F-8F60BB4B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809-9D87-41BF-9639-6A91C59D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342-0740-46A5-9C17-98CA822B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7A8-9D00-4DE8-8C52-9C5F51C0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E5C-FC1D-4600-B745-BC6950B4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FC6-5EB4-4F23-8521-94344787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E08-43DE-4C53-B599-477FDE76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5A0-AD25-4921-BECA-D0CB2E18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AEE-B449-4B6C-9DF7-E0326EC7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BF6-1B99-4353-8C54-E33A92C8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38BE-DAA6-4416-938C-5D879CBDA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zapbig0g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caralarmoff.wav"/><Relationship Id="rId15" Type="http://schemas.openxmlformats.org/officeDocument/2006/relationships/audio" Target="../media/highchime.wav"/><Relationship Id="rId16" Type="http://schemas.openxmlformats.org/officeDocument/2006/relationships/audio" Target="../media/highchime.wav"/><Relationship Id="rId17" Type="http://schemas.openxmlformats.org/officeDocument/2006/relationships/audio" Target="../media/highchime.wav"/><Relationship Id="rId18" Type="http://schemas.openxmlformats.org/officeDocument/2006/relationships/audio" Target="../media/highchime.wav"/><Relationship Id="rId19" Type="http://schemas.openxmlformats.org/officeDocument/2006/relationships/audio" Target="../media/caralarmoff.wav"/><Relationship Id="rId20" Type="http://schemas.openxmlformats.org/officeDocument/2006/relationships/audio" Target="../media/highchime.wav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caralarmoff.wav"/><Relationship Id="rId19" Type="http://schemas.openxmlformats.org/officeDocument/2006/relationships/audio" Target="../media/highchime.wav"/><Relationship Id="rId20" Type="http://schemas.openxmlformats.org/officeDocument/2006/relationships/audio" Target="../media/highchime.wav"/><Relationship Id="rId21" Type="http://schemas.openxmlformats.org/officeDocument/2006/relationships/audio" Target="../media/highchime.wav"/><Relationship Id="rId22" Type="http://schemas.openxmlformats.org/officeDocument/2006/relationships/audio" Target="../media/highchime.wav"/><Relationship Id="rId23" Type="http://schemas.openxmlformats.org/officeDocument/2006/relationships/audio" Target="../media/caralarmoff.wav"/><Relationship Id="rId24" Type="http://schemas.openxmlformats.org/officeDocument/2006/relationships/audio" Target="../media/highchime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zapbig0g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bserie06.wav"/><Relationship Id="rId17" Type="http://schemas.openxmlformats.org/officeDocument/2006/relationships/audio" Target="../media/bserie06.wav"/><Relationship Id="rId18" Type="http://schemas.openxmlformats.org/officeDocument/2006/relationships/audio" Target="../media/bserie06.wav"/><Relationship Id="rId19" Type="http://schemas.openxmlformats.org/officeDocument/2006/relationships/audio" Target="../media/bserie06.wav"/><Relationship Id="rId20" Type="http://schemas.openxmlformats.org/officeDocument/2006/relationships/audio" Target="../media/bserie06.wav"/><Relationship Id="rId21" Type="http://schemas.openxmlformats.org/officeDocument/2006/relationships/audio" Target="../media/bserie06.wav"/><Relationship Id="rId22" Type="http://schemas.openxmlformats.org/officeDocument/2006/relationships/audio" Target="../media/bserie06.wav"/><Relationship Id="rId23" Type="http://schemas.openxmlformats.org/officeDocument/2006/relationships/audio" Target="../media/bserie06.wav"/><Relationship Id="rId24" Type="http://schemas.openxmlformats.org/officeDocument/2006/relationships/audio" Target="../media/caralarmoff.wav"/><Relationship Id="rId25" Type="http://schemas.openxmlformats.org/officeDocument/2006/relationships/audio" Target="../media/highchime.wav"/><Relationship Id="rId26" Type="http://schemas.openxmlformats.org/officeDocument/2006/relationships/audio" Target="../media/highchime.wav"/><Relationship Id="rId27" Type="http://schemas.openxmlformats.org/officeDocument/2006/relationships/audio" Target="../media/highchime.wav"/><Relationship Id="rId28" Type="http://schemas.openxmlformats.org/officeDocument/2006/relationships/audio" Target="../media/highchime.wav"/><Relationship Id="rId29" Type="http://schemas.openxmlformats.org/officeDocument/2006/relationships/audio" Target="../media/caralarmoff.wav"/><Relationship Id="rId30" Type="http://schemas.openxmlformats.org/officeDocument/2006/relationships/audio" Target="../media/highchime.wav"/><Relationship Id="rId3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all the factors of each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008000" y="1297080"/>
                <a:ext cx="15336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630440" y="2031840"/>
                <a:ext cx="5428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234120" y="2041560"/>
                <a:ext cx="7938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487600" y="2048040"/>
                <a:ext cx="6253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183280" y="2075040"/>
                <a:ext cx="6681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003320" y="2940120"/>
                <a:ext cx="16956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676520" y="3675240"/>
                <a:ext cx="5428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238800" y="3654360"/>
                <a:ext cx="878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397240" y="3691080"/>
                <a:ext cx="6253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191200" y="3701880"/>
                <a:ext cx="9604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228840" y="3691080"/>
                <a:ext cx="666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421160" y="3701880"/>
                <a:ext cx="6685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450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3. List the common factors of 15 and 4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852480" y="4954680"/>
                <a:ext cx="5428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573200" y="4970520"/>
                <a:ext cx="6253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152880" y="4950000"/>
                <a:ext cx="7938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405160" y="4970520"/>
                <a:ext cx="666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4. What is the greatest common factor of 15 and 45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214800" y="6105600"/>
                <a:ext cx="7938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all the factors of each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947880" y="1297080"/>
                <a:ext cx="1655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630440" y="2031840"/>
                <a:ext cx="5428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130800" y="1986120"/>
                <a:ext cx="8780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158920" y="2033640"/>
                <a:ext cx="7081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184720" y="1998720"/>
                <a:ext cx="10018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22400" y="2940120"/>
                <a:ext cx="1655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676520" y="3675240"/>
                <a:ext cx="5428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238800" y="3654360"/>
                <a:ext cx="878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171880" y="3675240"/>
                <a:ext cx="7095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307120" y="3687840"/>
                <a:ext cx="10015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887560" y="3675240"/>
                <a:ext cx="7081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48240" y="3701880"/>
                <a:ext cx="6271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450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7. List the common factors of 24 and 3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852480" y="4954680"/>
                <a:ext cx="5428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531800" y="4970520"/>
                <a:ext cx="7099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319560" y="4950000"/>
                <a:ext cx="4586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384280" y="4970520"/>
                <a:ext cx="7081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8. What is the greatest common factor of 24 and 32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381480" y="6105600"/>
                <a:ext cx="460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11600" y="2031840"/>
                <a:ext cx="625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56240" y="2027160"/>
                <a:ext cx="6271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2004840"/>
                <a:ext cx="7095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071960" y="2028960"/>
                <a:ext cx="6699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6 –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all the factors of each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47880" y="1297080"/>
                <a:ext cx="1655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30440" y="2031840"/>
                <a:ext cx="5428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907320" y="2025720"/>
                <a:ext cx="87768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158920" y="2033640"/>
                <a:ext cx="7081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977080" y="2043000"/>
                <a:ext cx="10015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80920" y="2940120"/>
                <a:ext cx="19386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0" y="3659040"/>
                <a:ext cx="5428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8265960" y="3608280"/>
                <a:ext cx="8780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95360" y="3659040"/>
                <a:ext cx="7095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313760" y="3627360"/>
                <a:ext cx="1044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52440" y="3659040"/>
                <a:ext cx="6256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27800" y="3641760"/>
                <a:ext cx="1044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450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11. List the common factors of 66 and 9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52480" y="4954680"/>
                <a:ext cx="5428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31800" y="4970520"/>
                <a:ext cx="7099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024360" y="4950000"/>
                <a:ext cx="500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27320" y="4970520"/>
                <a:ext cx="6253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12. What is the greatest common factor of 66 and 90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132000" y="6105600"/>
                <a:ext cx="5018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11600" y="2031840"/>
                <a:ext cx="625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989600" y="2041560"/>
                <a:ext cx="10872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68520" y="2019240"/>
                <a:ext cx="6685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145040" y="2028960"/>
                <a:ext cx="9205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57240" y="3627360"/>
                <a:ext cx="6667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541840" y="3641760"/>
                <a:ext cx="9622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496960" y="3629160"/>
                <a:ext cx="6670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72080" y="3645000"/>
                <a:ext cx="9619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213000" y="3675240"/>
                <a:ext cx="666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13120" y="3643200"/>
                <a:ext cx="1003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49, 6 – 2 #1-12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pg. 5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11-15T14:03:39Z</dcterms:modified>
  <cp:revision>61</cp:revision>
  <dc:subject/>
  <dc:title>Slide 1</dc:title>
</cp:coreProperties>
</file>